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735-8DDE-49EF-97C2-E8B79A63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851220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2080" y="3926520"/>
            <a:ext cx="851220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291-5AAA-45D0-AD2B-94B99AEC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3840" y="15541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2080" y="39265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3840" y="39265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BDC-4D14-494C-9616-128C8E3F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2740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0280" y="1554120"/>
            <a:ext cx="2740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8120" y="1554120"/>
            <a:ext cx="2740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2080" y="3926520"/>
            <a:ext cx="2740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0280" y="3926520"/>
            <a:ext cx="2740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8120" y="3926520"/>
            <a:ext cx="2740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BA8-B856-4FE3-A40C-5FF97B62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3F93-B9D9-43C5-8EE6-E7988EC0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2080" y="1554120"/>
            <a:ext cx="851220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546A-337B-4A23-B4D3-A43E2553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851220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F40D-3B2E-4A85-A9E7-A3F9E6C3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415368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840" y="1554120"/>
            <a:ext cx="415368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4245-F958-4873-A14B-EB8E82C7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64B0-A968-422C-B393-731F2C65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43080" y="82440"/>
            <a:ext cx="6686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4461-F778-4F8E-BCDB-80A9158D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840" y="1554120"/>
            <a:ext cx="415368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2080" y="39265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DEE3-020C-4AAB-B315-A196A0B2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52080" y="1554120"/>
            <a:ext cx="851220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D07-88DF-4887-8C97-8DE8AC79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415368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840" y="15541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840" y="39265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F50C-B1A0-48B9-9288-B02D0B7D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840" y="15541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2080" y="3926520"/>
            <a:ext cx="851220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1F4A-5789-455E-BB51-33FC6441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851220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2080" y="3926520"/>
            <a:ext cx="851220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3178-C018-4D26-B0F5-A9BC26C2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840" y="15541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2080" y="39265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840" y="39265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DCE4-6EF5-4B18-8A7A-224D2259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2740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0280" y="1554120"/>
            <a:ext cx="2740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8120" y="1554120"/>
            <a:ext cx="2740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52080" y="3926520"/>
            <a:ext cx="2740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0280" y="3926520"/>
            <a:ext cx="2740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8120" y="3926520"/>
            <a:ext cx="2740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742E-8B5C-4D8B-A34A-B67FC1B6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851220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8F3-0CE4-439A-AA62-575C14B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415368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840" y="1554120"/>
            <a:ext cx="415368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62E-B546-4779-AF50-E057EEF5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1AD-4821-4E74-A33B-DB650977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43080" y="82440"/>
            <a:ext cx="6686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7D7-F9E2-4513-BD8D-2AE56872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840" y="1554120"/>
            <a:ext cx="415368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2080" y="39265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4EB-042D-4A17-B3A7-356481B1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415368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840" y="15541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3840" y="39265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C16-8B22-4B24-BC58-B7BF75CE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3840" y="1554120"/>
            <a:ext cx="415368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2080" y="3926520"/>
            <a:ext cx="8512200" cy="216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C33-081A-4001-B2B7-55676E40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D0FB-CA81-47E1-A507-F5F8827012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52080" y="1554120"/>
            <a:ext cx="851220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"/>
          <p:cNvSpPr/>
          <p:nvPr/>
        </p:nvSpPr>
        <p:spPr>
          <a:xfrm>
            <a:off x="352440" y="6477120"/>
            <a:ext cx="703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0c0c0"/>
                </a:solidFill>
                <a:latin typeface="Tahoma"/>
              </a:rPr>
              <a:t>JACoW Status Report, Team Meeting, Oak Ridge, November 2004, J. Pool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1880" y="6477120"/>
            <a:ext cx="685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23A4-5BD7-46A7-8462-CAADEAD0D886}" type="slidenum">
              <a:rPr b="0" lang="en-US" sz="12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74800"/>
            <a:ext cx="9144000" cy="1108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5440" y="108000"/>
            <a:ext cx="1440000" cy="63324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0099ff"/>
              </a:gs>
            </a:gsLst>
            <a:lin ang="10800000"/>
          </a:gradFill>
          <a:ln w="25560">
            <a:solidFill>
              <a:srgbClr val="ffcc00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c0c0"/>
                </a:solidFill>
                <a:latin typeface="BankGothic Md BT"/>
              </a:rPr>
              <a:t>JACoW</a:t>
            </a:r>
            <a:r>
              <a:rPr b="1" i="1" lang="en-US" sz="2200" spc="-1" strike="noStrike">
                <a:solidFill>
                  <a:srgbClr val="c0c0c0"/>
                </a:solidFill>
                <a:latin typeface="Zurich Ex BT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386D-C0AE-49AF-B46B-534E909D55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Statu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851220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0 conferences already publish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urrently ~20,000 hits per annum (averaged since the Trieste Meeting last year)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omain name registration (payment) valid for 1 more year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in effort has been with SPMS during 2004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Membership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851220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addition to the seven series already published, there are some new members and two more conferences with applications under consideration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EL Conference Series joined in 2004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nternational Computational Accelerator Physics (ICAP) also joined in 2004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RuPAC joined in 2004 and will publish their 2004 conference on JACoW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CFA Advanced Beam Dynamics Workshop is planning to apply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nterest expressed by the Sarantsev workshop (Russia)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Problems in 2004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851220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omain registration failure on several occasions (down for several hours and in one case, days)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bsite was migrated on October 14 – some problems since then with search engine and uploading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earch engine still returns some garbage in the first line of the descriptive information for a small number of paper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earch engine does not return some papers – two cases have been reported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Both now OK since the migration and re-indexing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Tahoma"/>
              </a:rPr>
              <a:t>Progress in 2004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851220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help text for authors has been updated, including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ips on graphics insertion in Word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recipe for avoiding Type 3 fonts in LaTeX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canned conferences coming through and publish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arly EPAC conferences are being scann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Unresolved Issu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851220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unding for JACoW activities including domain nam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brary data publication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eywords list needs accelerator names review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C95 has more on the CD than has been published on the web. I have been asked to add photos etc. but the CD is fully PDF and therefore it needs some html pages sorting out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3080" y="82440"/>
            <a:ext cx="66866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Tahoma"/>
              </a:rPr>
              <a:t>The Future ?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2080" y="1554120"/>
            <a:ext cx="851220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PAC is the first conference to only have electronic publication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his raises the question of it is worth numbering the page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suggestion has been received that we should add a definition of how to cite papers published on JACoW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ny suggestion as to how the library data should be made available 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xtract the data from SPMS and make a link from a new page on the JACoW website ?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4:04:02Z</dcterms:created>
  <dc:creator>John Poole</dc:creator>
  <dc:description>Oak Ridge Team Meeting 2004</dc:description>
  <dc:language>en-US</dc:language>
  <cp:lastModifiedBy>Poole</cp:lastModifiedBy>
  <cp:lastPrinted>2000-10-31T08:12:42Z</cp:lastPrinted>
  <dcterms:modified xsi:type="dcterms:W3CDTF">2004-11-04T08:20:34Z</dcterms:modified>
  <cp:revision>172</cp:revision>
  <dc:subject/>
  <dc:title>JACoW Status Report</dc:title>
</cp:coreProperties>
</file>